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FC6-0E22-437A-A39F-6A25FDCE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AF7-F01A-492F-9A6A-D823D6CF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A5B-448B-44DA-B516-91A19A19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3D16-514F-497B-B0AA-91212DD4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0754-B6AF-4003-A4E1-60E3AB92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18A1-FFAE-47F0-BCFB-80B0EC50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DD8A-34E6-4993-99EF-5276C3B2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5F08-E59A-4D8F-AC75-F1745561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3575-784D-4A17-8F05-6C7E152C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2E10-C6FB-4A77-89CA-813FCE61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381A-B48A-473C-B6FF-DD5360B6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26E-1CBC-4056-B024-5E4C8A6F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792F-4301-4096-9F25-76A89CE3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35C9-85FF-4EDE-A95D-4DCC944B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6976-DAF9-4284-AB95-366722C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07E7-6912-4ED9-B7F3-67CDA73C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16AB-739D-4A54-877A-95F07E0F0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66F-8554-4A9F-BD07-266A52B1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D6D-17AD-4D39-9A25-359D2BF6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53B-714C-4A75-B665-D541782B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300-86A0-45C8-8675-DBB999A3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833-BB94-4990-BCBC-14C45381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F3B-14DB-4E21-9238-4DD5B0C0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67A4-F41D-4F07-9574-13507DBE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2d9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80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400" y="640080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2699-1DCC-4F51-96BB-5FA9389CB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9520"/>
            <a:ext cx="83059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2d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0520" y="6477120"/>
            <a:ext cx="2667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00400" y="64771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095880" y="6477120"/>
            <a:ext cx="2819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374A-32E4-46A2-A1D2-1198FC813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lsuagcenter.com/NR/rdonlyres/355735B8-2386-444C-A03D-8FD846F35A43/15967/4h_mark2_w200.jpg&amp;imgrefurl=http://www.lsuagcenter.com/en/our_offices/parishes/Ascension/Features/4-H/Ascension%2BParish%2B4H%2BClubs.htm&amp;h=200&amp;w=200&amp;sz=9&amp;hl=en&amp;start=9&amp;sig2=PJ1vsHpQIW6YFdTu1vt2Ww&amp;tbnid=ZHB9sEpdKBR6iM:&amp;tbnh=104&amp;tbnw=104&amp;ei=A-SER4foFY32eeKb6VI&amp;prev=/images%3Fq%3D4-H%2Blogo%26gbv%3D2%26svnum%3D10%26hl%3Den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www.fis.ncsu.edu/Advancement_Services/directors_pages/prospect_management/bigBrick.gif&amp;imgrefurl=http://www.fis.ncsu.edu/Advancement_Services/directors_pages/prospect_management/prospect_management2.htm&amp;h=173&amp;w=509&amp;sz=4&amp;hl=en&amp;start=35&amp;sig2=VtxFKVFEIPTsl7XFhE8AbQ&amp;tbnid=SvwxHZmy5L8H7M:&amp;tbnh=45&amp;tbnw=131&amp;ei=WOSER-KsNJGmevGT0Fg&amp;prev=/images%3Fq%3DNC%2BState%2Blogo%26start%3D20%26gbv%3D2%26ndsp%3D20%26svnum%3D10%26hl%3Den%26sa%3DN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images.tribe.net/tribe/upload/photo/827/a94/827a9428-3bc9-41df-8c3b-b764da3c6f5c.large-profile.jpg&amp;imgrefurl=http://people.tribe.net/kachinakatrina&amp;h=429&amp;w=311&amp;sz=15&amp;hl=en&amp;start=12&amp;sig2=W57pxfqpbeysx1oZeF6RqQ&amp;tbnid=8FODiOR03BVKuM:&amp;tbnh=126&amp;tbnw=91&amp;ei=LuuER6StGI-uetmYzEg&amp;prev=/images%3Fq%3Dworking%2Btogether%26gbv%3D2%26svnum%3D10%26hl%3Den%26sa%3D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reedigitalphotos.net/image/s_spider-web.jpg&amp;imgrefurl=http://www.freedigitalphotos.net/details.php%3Fgid%3D53%26sgid%3D%26pid%3D224&amp;h=375&amp;w=500&amp;sz=152&amp;hl=en&amp;start=24&amp;sig2=Iaqskb3sQ2uJshSmfReNUw&amp;tbnid=obQRN6XM6FT8GM:&amp;tbnh=98&amp;tbnw=130&amp;ei=4OqER4ndBZSUeJyslFY&amp;prev=/images%3Fq%3Dspider%2Bweb%26start%3D20%26gbv%3D2%26ndsp%3D20%26svnum%3D10%26hl%3Den%26sa%3DN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content.answers.com/main/content/wp/en/thumb/1/1e/180px-NCSU_Belltower.png&amp;imgrefurl=http://www.answers.com/topic/north-carolina-state-university-main-campus&amp;h=385&amp;w=180&amp;sz=114&amp;hl=en&amp;start=20&amp;sig2=CooTE5BKIbfjsWluOG9XMA&amp;tbnid=RyeCmI8KbxokrM:&amp;tbnh=123&amp;tbnw=58&amp;ei=W-WER7jrI5GmevyT0Fg&amp;prev=/images%3Fq%3DNC%2BState%2Btower%26gbv%3D2%26svnum%3D10%26hl%3Den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emporia.edu/lifelong/eled/images/math.png&amp;imgrefurl=http://www.emporia.edu/lifelong/eled/kckcc/index.htm&amp;h=282&amp;w=195&amp;sz=225&amp;hl=en&amp;start=17&amp;sig2=io9R2sLxDEwPlrpoh7T6wQ&amp;tbnid=7shIwwdLfIncyM:&amp;tbnh=114&amp;tbnw=79&amp;ei=eOaER6ajMZGmevGT0Fg&amp;prev=/images%3Fq%3Dyouth%2Bcompleting%2Btest%26gbv%3D2%26svnum%3D10%26hl%3Den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3059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2d9"/>
                </a:solidFill>
                <a:latin typeface="Arial"/>
              </a:rPr>
              <a:t>Listening to Youth</a:t>
            </a:r>
            <a:br>
              <a:rPr sz="4400"/>
            </a:br>
            <a:r>
              <a:rPr b="1" lang="en-US" sz="4400" spc="-1" strike="noStrike">
                <a:solidFill>
                  <a:srgbClr val="ffe2d9"/>
                </a:solidFill>
                <a:latin typeface="Arial"/>
              </a:rPr>
              <a:t>Leading Communities</a:t>
            </a:r>
            <a:endParaRPr b="1" lang="en-US" sz="44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724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North Carolina 4-H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Study of Positive Youth Develop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477120" y="304920"/>
            <a:ext cx="1523880" cy="466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53280" y="304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304920"/>
            <a:ext cx="15242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4-H and community partners wil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results to identify strength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sks, program effectiveness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ed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29000" y="3886200"/>
            <a:ext cx="2819520" cy="2427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990720" y="4317840"/>
            <a:ext cx="2581200" cy="1721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he image “http://www.eastern4hcenter.org/images/homepg/ropes.jpg” cannot be displayed, because it contains errors."/>
          <p:cNvPicPr/>
          <p:nvPr/>
        </p:nvPicPr>
        <p:blipFill>
          <a:blip r:embed="rId4"/>
          <a:stretch/>
        </p:blipFill>
        <p:spPr>
          <a:xfrm>
            <a:off x="6172200" y="4343400"/>
            <a:ext cx="24382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What we hear from youth 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and parents and what we 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gain from working together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2311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…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will weave a stronger web of 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support and opportunity for our 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clubs, our communities, our country, 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and our worl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990720"/>
            <a:ext cx="29145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s and Bo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: Understand and help 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: Youth 13-17; Ideal: 9-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G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ents of participating 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: Survey of Positive Youth De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: NC community sites with desk space or computer labs, including schools, afterschool, or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: 45-90 min, by June 30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s and Bo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: Steps to implementing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 partners/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collectors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ent consent/youth as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uct survey (paper, on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d results to Tuf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eive and publiciz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What do we know about our youth to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What impact do families, schools, and community clubs have on young peop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Where should communiti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begin in reaching you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7120" y="42670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ing communities listen to you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stening carefully helps youth advocates lead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o much of what we hear about youth is neg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o much of what we know about youth programs is specula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do the best we c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The image “http://www.criminology.fsu.edu/crimtheory/images/25222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6172200" y="3657600"/>
            <a:ext cx="2146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w we can do be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ower to do better is within 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State was created f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ing, outreach, and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4-H could serve youth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th stronger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2400" y="1523880"/>
            <a:ext cx="1077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we beg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4-H joins with __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most extensive re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positive youth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 condu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1143000"/>
            <a:ext cx="1320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4-H youth professionals will list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lead research with youth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ent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d9"/>
                </a:solidFill>
                <a:latin typeface="Arial"/>
              </a:rPr>
              <a:t>4-H Study of Positive Youth Development</a:t>
            </a:r>
            <a:endParaRPr b="1" lang="en-US" sz="3200" spc="-1" strike="noStrike">
              <a:solidFill>
                <a:srgbClr val="ffe2d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 4-H partners at Tufts Universit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ll prepare summary reports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th development and program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6:50:17Z</dcterms:created>
  <dc:creator>bsillim</dc:creator>
  <dc:description/>
  <dc:language>en-US</dc:language>
  <cp:lastModifiedBy>bsillim</cp:lastModifiedBy>
  <dcterms:modified xsi:type="dcterms:W3CDTF">2008-01-09T16:03:30Z</dcterms:modified>
  <cp:revision>36</cp:revision>
  <dc:subject/>
  <dc:title>Slide 1</dc:title>
</cp:coreProperties>
</file>